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773-EAF7-427B-8B79-77905B04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DA6-47DF-45B3-BFD1-5879294F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0AA-2D02-42EE-8CC2-503744E2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2C0-BDA1-4D99-BBCE-E204A46F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AD3-2460-4E0A-99D5-25B84AB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349-F049-4654-8ED1-7BB87868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76B-C910-4E58-882C-A1EC938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315-301D-47C3-A78F-687C6601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117-D0DB-43D3-9314-AEAC03CF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01D9-03D9-4CBA-AC43-BA31134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DA8-7225-41C6-9111-6925C87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345-A3B0-4E09-90A2-6D2D9A53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E1FD-BF1D-4CF4-8692-A6E896C5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33920" y="4876920"/>
            <a:ext cx="1504800" cy="3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5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6</cp:lastModifiedBy>
  <dcterms:modified xsi:type="dcterms:W3CDTF">2012-06-18T10:54:34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